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E22-8456-4F58-BED0-8963557A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4D0-3BA6-43BF-8C35-2308DBCD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A3D-09A2-47A5-B748-AF06DD23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877-32B7-426E-BF44-0B29336D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879-E49A-4A60-B346-9A5AF1E1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6B5-E6D7-47C3-866F-21E33892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A67-E18F-4874-930A-4457FE10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59B-242A-4A7F-BD0D-CA17B3B7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698-7B2D-4934-BDE6-85C49CEB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0A2-40A1-4766-8B2F-AB680AF3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BC6-5014-4A3B-BD9C-9B33D190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BBB-F8BE-4161-87B6-C11AC19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48FD-0710-47E0-BED9-BB7375F5CC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5280" y="1844640"/>
            <a:ext cx="45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第十五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                    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二次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04000" y="3933720"/>
            <a:ext cx="1727280" cy="137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09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89680" y="1240920"/>
            <a:ext cx="2771280" cy="4260600"/>
            <a:chOff x="2389680" y="1240920"/>
            <a:chExt cx="2771280" cy="4260600"/>
          </a:xfrm>
        </p:grpSpPr>
        <p:sp>
          <p:nvSpPr>
            <p:cNvPr id="117" name=""/>
            <p:cNvSpPr/>
            <p:nvPr/>
          </p:nvSpPr>
          <p:spPr>
            <a:xfrm flipV="1">
              <a:off x="2905200" y="1641600"/>
              <a:ext cx="75960" cy="460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81160" y="1654200"/>
              <a:ext cx="108000" cy="20952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02120" y="1240920"/>
              <a:ext cx="144360" cy="622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46480" y="1241280"/>
              <a:ext cx="58428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016080" y="2817720"/>
              <a:ext cx="74880" cy="44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0960" y="2830680"/>
              <a:ext cx="109440" cy="28872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13000" y="2293560"/>
              <a:ext cx="144720" cy="8254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7720" y="2293920"/>
              <a:ext cx="133344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486240" y="3990960"/>
              <a:ext cx="74520" cy="44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60760" y="4003560"/>
              <a:ext cx="109440" cy="28908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683160" y="3465360"/>
              <a:ext cx="144360" cy="827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7520" y="3465360"/>
              <a:ext cx="133344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16080" y="5086080"/>
              <a:ext cx="74880" cy="44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0960" y="5099040"/>
              <a:ext cx="109440" cy="23976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213000" y="4638240"/>
              <a:ext cx="144720" cy="7002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7720" y="4638600"/>
              <a:ext cx="79524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1800" y="4705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69800" y="35337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00000" y="23605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88040" y="475452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97640" y="475452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00640" y="475452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89680" y="475452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90160" y="358308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02520" y="358308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9360" y="358308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59480" y="358308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81560" y="358308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9680" y="358308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20000" y="24098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32720" y="240984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99560" y="24098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7640" y="24098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00640" y="240984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89680" y="24098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5680" y="1279440"/>
              <a:ext cx="6224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6760" y="12794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35480" y="127944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89680" y="12794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27880" y="466740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05960" y="35132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8880" y="35132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35800" y="234000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0680" y="612720"/>
                <a:ext cx="6221160" cy="46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练习：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计算</m:t>
                        </m:r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7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76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简下列各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413000"/>
                <a:ext cx="648180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&lt;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3809880"/>
            <a:ext cx="45720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826920" y="0"/>
            <a:ext cx="5234760" cy="3616920"/>
            <a:chOff x="826920" y="0"/>
            <a:chExt cx="5234760" cy="3616920"/>
          </a:xfrm>
        </p:grpSpPr>
        <p:sp>
          <p:nvSpPr>
            <p:cNvPr id="168" name=""/>
            <p:cNvSpPr txBox="1"/>
            <p:nvPr/>
          </p:nvSpPr>
          <p:spPr>
            <a:xfrm>
              <a:off x="826920" y="0"/>
              <a:ext cx="3276720" cy="13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知识小结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32480" y="2548080"/>
              <a:ext cx="4129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               </a:t>
              </a: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通过今天的学习</a:t>
              </a: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用你自己的话说说你的收获和体会</a:t>
              </a: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请你填一填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746280" y="1165320"/>
            <a:ext cx="7559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平方是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平方根是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;              =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是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是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—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非负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是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00400" y="1752480"/>
                <a:ext cx="838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268880" y="10666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31080" y="155736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±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8720" y="16002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920" y="2666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955440" cy="83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95480" y="3276720"/>
                <a:ext cx="762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372360" y="3933720"/>
                <a:ext cx="9903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1197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什么叫做平方根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260280"/>
            <a:ext cx="230328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华文新魏"/>
              </a:rPr>
              <a:t>知识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844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一般地，如果一个数的平方等于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，那么这个数叫做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平方根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1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什么叫算术平方根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9337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正数的正平方根和零的平方根，统称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算术平方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55640" y="4653000"/>
          <a:ext cx="5616720" cy="8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4653000"/>
                    <a:ext cx="5616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0920" y="3213000"/>
                <a:ext cx="80643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形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sSub>
                      <m:e/>
                      <m:sub/>
                    </m:sSub>
                    <m:sSub>
                      <m:e/>
                      <m:sub/>
                    </m:sSub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的式子叫做二次根式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79640" y="3213000"/>
                <a:ext cx="1584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50920" y="1916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次根式的定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18900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引入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03280" y="404640"/>
            <a:ext cx="631512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究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利用算术平方根的意义填空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04920" y="1447920"/>
                <a:ext cx="1574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43200" y="1447920"/>
                <a:ext cx="20844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019920" y="1295280"/>
                <a:ext cx="1711080" cy="15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4920" y="2971800"/>
                <a:ext cx="13539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525320" y="1447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15238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848720" y="1371600"/>
                <a:ext cx="5014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600200" y="31240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292640"/>
            <a:ext cx="446400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95280" y="4221000"/>
                <a:ext cx="20653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2843280" y="4653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a≥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03280" y="404640"/>
            <a:ext cx="631512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究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利用算术平方根的意义填空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2840" y="1447920"/>
                <a:ext cx="21002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459160" y="1447920"/>
                <a:ext cx="2652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853240" y="1295280"/>
                <a:ext cx="2046240" cy="15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836720" y="141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1484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848720" y="1371600"/>
                <a:ext cx="5014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95280" y="4365720"/>
            <a:ext cx="446400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55520" y="4221000"/>
                <a:ext cx="24019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817720" y="46864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(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87480" y="396720"/>
            <a:ext cx="4464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42920" y="333360"/>
                <a:ext cx="20653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81560" y="7905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a≥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720" y="2133720"/>
            <a:ext cx="446400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71640" y="2133720"/>
                <a:ext cx="240192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635280" y="2492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(a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68360" y="4005360"/>
                <a:ext cx="3600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067280" y="4292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005360"/>
            <a:ext cx="7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4941720"/>
            <a:ext cx="73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4005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a≥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5157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(a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8360" y="2349360"/>
            <a:ext cx="7799400" cy="2097000"/>
            <a:chOff x="468360" y="2349360"/>
            <a:chExt cx="7799400" cy="2097000"/>
          </a:xfrm>
        </p:grpSpPr>
        <p:sp>
          <p:nvSpPr>
            <p:cNvPr id="107" name=""/>
            <p:cNvSpPr/>
            <p:nvPr/>
          </p:nvSpPr>
          <p:spPr>
            <a:xfrm>
              <a:off x="468360" y="2349360"/>
              <a:ext cx="75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二次根式的性质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665280" y="3500280"/>
                  <a:ext cx="760248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（双重非负性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1640" y="1125360"/>
          <a:ext cx="32176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3217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09:09:23Z</dcterms:created>
  <dc:creator>微软中国</dc:creator>
  <dc:description/>
  <dc:language>en-US</dc:language>
  <cp:lastModifiedBy>微软中国</cp:lastModifiedBy>
  <dcterms:modified xsi:type="dcterms:W3CDTF">2015-06-09T09:09:27Z</dcterms:modified>
  <cp:revision>1</cp:revision>
  <dc:subject/>
  <dc:title>幻灯片 1</dc:title>
</cp:coreProperties>
</file>